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778-67EE-4991-80D2-FDD5EDC3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503-2A88-49B8-8CA2-A6CDD393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BD7-171D-489F-8E2B-FCBD18C5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AD7-C66E-45BC-87AF-4FBDE7B4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F2B-0A59-4C25-8BAA-ADBA31C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69D-BA32-4D6C-BD94-363202D5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792-A404-4AAA-8605-08BCAAC6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672-E676-4256-8BE0-853A2C8F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0F2-0D07-4352-A015-1F5C408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54F-64F6-4FAD-B9A1-0AF6273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164-920F-409F-AAF0-10ACC90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086-58E5-4E8E-8DFB-3E128BB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660-D53C-4A54-8968-55C3FF94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eap building boun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07440" cy="5923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eating this advers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114800"/>
            <a:ext cx="800100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nalysis of the supposedly best algorithm to be incorrect.(average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that the argument for the supposedly best lower bound is incorrect.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 lower bound of 1.37n. 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irst loss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66680" y="3733560"/>
            <a:ext cx="56052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4343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33526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4419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676520" y="37335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752480" y="3733560"/>
            <a:ext cx="45720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57400" y="4343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8080" y="472392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1142640" y="472392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410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410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676160" y="472392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5410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90920" y="4343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1905120" y="365724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19520" y="472392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590920" y="5410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71440" y="4723920"/>
            <a:ext cx="2286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5410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28800" y="2438280"/>
            <a:ext cx="20574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133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3657240"/>
            <a:ext cx="56052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4267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2767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4343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65724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495680" y="3657240"/>
            <a:ext cx="457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00600" y="4267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190760" y="2437920"/>
            <a:ext cx="228600" cy="838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37960" y="3200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867280" y="358092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37960" y="4267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7080" y="2437920"/>
            <a:ext cx="152424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48120" y="3276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52680" y="2514240"/>
            <a:ext cx="60984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304920" y="1752480"/>
            <a:ext cx="5638320" cy="4788000"/>
            <a:chOff x="304920" y="1752480"/>
            <a:chExt cx="5638320" cy="4788000"/>
          </a:xfrm>
        </p:grpSpPr>
        <p:grpSp>
          <p:nvGrpSpPr>
            <p:cNvPr id="233" name=""/>
            <p:cNvGrpSpPr/>
            <p:nvPr/>
          </p:nvGrpSpPr>
          <p:grpSpPr>
            <a:xfrm>
              <a:off x="533520" y="1752480"/>
              <a:ext cx="5409720" cy="3736440"/>
              <a:chOff x="533520" y="1752480"/>
              <a:chExt cx="5409720" cy="373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1447560" y="29718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38080" y="396252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1600" y="403848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81080" y="396252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96252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4600" y="502920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971800" y="502920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76160" y="5029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43000" y="502920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520" y="5029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81280" y="388620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14800" y="396252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24280" y="388620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62360" y="3886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62360" y="2819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90760" y="28954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9880" y="175248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71800" y="2895480"/>
                <a:ext cx="3805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04920" y="5715000"/>
              <a:ext cx="175248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a(x)=red in-degree of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9480" y="1676520"/>
            <a:ext cx="5410080" cy="5001120"/>
            <a:chOff x="609480" y="1676520"/>
            <a:chExt cx="5410080" cy="5001120"/>
          </a:xfrm>
        </p:grpSpPr>
        <p:grpSp>
          <p:nvGrpSpPr>
            <p:cNvPr id="254" name=""/>
            <p:cNvGrpSpPr/>
            <p:nvPr/>
          </p:nvGrpSpPr>
          <p:grpSpPr>
            <a:xfrm>
              <a:off x="609480" y="1676520"/>
              <a:ext cx="5410080" cy="3736080"/>
              <a:chOff x="609480" y="1676520"/>
              <a:chExt cx="5410080" cy="3736080"/>
            </a:xfrm>
          </p:grpSpPr>
          <p:sp>
            <p:nvSpPr>
              <p:cNvPr id="255" name=""/>
              <p:cNvSpPr/>
              <p:nvPr/>
            </p:nvSpPr>
            <p:spPr>
              <a:xfrm>
                <a:off x="1523880" y="28954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914040" y="3886200"/>
                <a:ext cx="3812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396216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040" y="3886200"/>
                <a:ext cx="3812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90560" y="3886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90560" y="4952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47760" y="4952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52480" y="4952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18960" y="4952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480" y="4952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57240" y="3809880"/>
                <a:ext cx="3812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90760" y="3886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240" y="3809880"/>
                <a:ext cx="3812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38680" y="38098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38680" y="274320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67080" y="281916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85840" y="1676520"/>
                <a:ext cx="3812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47760" y="281916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981080" y="5486400"/>
              <a:ext cx="1905120" cy="119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b(x)=red in-degree of the parent of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ur advers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990720" y="3352680"/>
            <a:ext cx="56016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39625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2971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335232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76520" y="33526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0360" y="39625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62120" y="434304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1066320" y="434304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599840" y="4343040"/>
            <a:ext cx="2286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029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14600" y="3962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1828800" y="327636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14600" y="5029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895120" y="4343040"/>
            <a:ext cx="2286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752480" y="2057400"/>
            <a:ext cx="20574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733920" y="3276360"/>
            <a:ext cx="56016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3962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32763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419720" y="3276360"/>
            <a:ext cx="457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5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4114440" y="2057400"/>
            <a:ext cx="22860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562720" y="2819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91320" y="320004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56272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190760" y="2057040"/>
            <a:ext cx="152388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5715000"/>
            <a:ext cx="17524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(x)=red in-degree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718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76720" y="2133720"/>
            <a:ext cx="60948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5486400"/>
            <a:ext cx="19051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(x)=red in-degree of the parent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5638680"/>
            <a:ext cx="18288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(x)=parent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1066680"/>
            <a:ext cx="28195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adversary will answer a comparison according to the first rule that app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node with the largest a w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node that has its u undefined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ule 3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 much more complicated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ample of rul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s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343400" y="213372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952520" y="2133720"/>
            <a:ext cx="38124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32767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289512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1905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523880" y="2209680"/>
            <a:ext cx="38124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133720" y="2209320"/>
            <a:ext cx="38088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2666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s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523880" y="4343400"/>
            <a:ext cx="38124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133720" y="43434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4800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4800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62120" y="4267080"/>
            <a:ext cx="10666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5627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523880" y="518112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5486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590920" y="51055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181480" y="4267080"/>
            <a:ext cx="38124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5791320" y="4266720"/>
            <a:ext cx="38088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47242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1992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419720" y="4190760"/>
            <a:ext cx="10666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19920" y="5410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248520" y="50292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715000" y="495288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5410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209680" y="1981080"/>
            <a:ext cx="236232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438280" y="411480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nalysis the adversary using a 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057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57200" y="236232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066320" y="236232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2819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2743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47920" y="312372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2743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57400" y="304812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666520" y="304812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429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048120" y="380952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4191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1219320" y="2286000"/>
            <a:ext cx="12952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657600" y="297180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4266720" y="297180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3429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33526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48320" y="3733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4114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3526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257800" y="365760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866920" y="365760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4114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248520" y="44197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4800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19720" y="2895480"/>
            <a:ext cx="12952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1218960" y="2209680"/>
            <a:ext cx="28191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791320"/>
            <a:ext cx="2209680" cy="1241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||{x|a(x)=0,b(x)=1}||/n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791320"/>
            <a:ext cx="1981080" cy="92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{x|a(x)=0} p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||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||/n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8600" y="2819520"/>
            <a:ext cx="6172200" cy="2361960"/>
            <a:chOff x="228600" y="2819520"/>
            <a:chExt cx="6172200" cy="2361960"/>
          </a:xfrm>
        </p:grpSpPr>
        <p:sp>
          <p:nvSpPr>
            <p:cNvPr id="388" name=""/>
            <p:cNvSpPr/>
            <p:nvPr/>
          </p:nvSpPr>
          <p:spPr>
            <a:xfrm>
              <a:off x="228600" y="28195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19320" y="3505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8800" y="3505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19520" y="41911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342900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411480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29200" y="411480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19920" y="480060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209680" y="5791320"/>
            <a:ext cx="19814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{x|a(x)=1} p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||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||/n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2743200"/>
            <a:ext cx="5181480" cy="1676520"/>
            <a:chOff x="1219320" y="2743200"/>
            <a:chExt cx="5181480" cy="1676520"/>
          </a:xfrm>
        </p:grpSpPr>
        <p:sp>
          <p:nvSpPr>
            <p:cNvPr id="398" name=""/>
            <p:cNvSpPr/>
            <p:nvPr/>
          </p:nvSpPr>
          <p:spPr>
            <a:xfrm>
              <a:off x="1219320" y="274320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19520" y="342900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19720" y="3352680"/>
              <a:ext cx="380880" cy="38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4038480"/>
              <a:ext cx="380880" cy="38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219320" y="3505320"/>
            <a:ext cx="5181120" cy="1675800"/>
            <a:chOff x="1219320" y="3505320"/>
            <a:chExt cx="5181120" cy="1675800"/>
          </a:xfrm>
        </p:grpSpPr>
        <p:sp>
          <p:nvSpPr>
            <p:cNvPr id="403" name=""/>
            <p:cNvSpPr/>
            <p:nvPr/>
          </p:nvSpPr>
          <p:spPr>
            <a:xfrm>
              <a:off x="1219320" y="3505320"/>
              <a:ext cx="380880" cy="3808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19160" y="4190760"/>
              <a:ext cx="380880" cy="3808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19360" y="4114800"/>
              <a:ext cx="380880" cy="3805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19560" y="4800600"/>
              <a:ext cx="380880" cy="3805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9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342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3429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055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588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5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2057400"/>
            <a:ext cx="220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adversary forces any algorithm which builds a heap by first building a binomial tree to use 1.25n compari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066680" y="3733920"/>
            <a:ext cx="6934320" cy="1295280"/>
            <a:chOff x="1066680" y="3733920"/>
            <a:chExt cx="6934320" cy="12952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0280" y="373392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66680" y="464832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4648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4648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38480" y="464832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48320" y="4648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67280" y="464832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00800" y="4648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0120" y="46483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676520" y="2819520"/>
            <a:ext cx="5715000" cy="1295280"/>
            <a:chOff x="1676520" y="2819520"/>
            <a:chExt cx="5715000" cy="1295280"/>
          </a:xfrm>
        </p:grpSpPr>
        <p:sp>
          <p:nvSpPr>
            <p:cNvPr id="436" name=""/>
            <p:cNvSpPr/>
            <p:nvPr/>
          </p:nvSpPr>
          <p:spPr>
            <a:xfrm>
              <a:off x="1676520" y="373392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29000" y="373392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7800" y="373392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10280" y="3733920"/>
              <a:ext cx="3812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2819520"/>
              <a:ext cx="3812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 the final he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19810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19520" y="2286000"/>
            <a:ext cx="15238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724280" y="2286000"/>
            <a:ext cx="152424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195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28195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905120" y="3200400"/>
            <a:ext cx="76176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819520" y="3200400"/>
            <a:ext cx="76176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76520" y="3733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9000" y="3733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486400" y="3200400"/>
            <a:ext cx="76212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6400440" y="3200400"/>
            <a:ext cx="76212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3733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10280" y="37339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29528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198108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46483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04812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73392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46483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87692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556272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46483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62940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7315200" y="4038480"/>
            <a:ext cx="45720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0080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0120" y="4648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410080"/>
            <a:ext cx="8534520" cy="51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||{x|x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nd the parent y of x in the heap is in 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}||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6553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||{x|x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nd x is not a leaf in the heap}||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24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436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7712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866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34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668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09480" y="1828800"/>
            <a:ext cx="807732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number of comparisons exceed n-1+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constrai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0.25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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09480" y="2895480"/>
            <a:ext cx="3353040" cy="2136240"/>
            <a:chOff x="609480" y="2895480"/>
            <a:chExt cx="3353040" cy="2136240"/>
          </a:xfrm>
        </p:grpSpPr>
        <p:sp>
          <p:nvSpPr>
            <p:cNvPr id="490" name=""/>
            <p:cNvSpPr/>
            <p:nvPr/>
          </p:nvSpPr>
          <p:spPr>
            <a:xfrm>
              <a:off x="1295280" y="4572000"/>
              <a:ext cx="2667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4572000"/>
              <a:ext cx="53316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1600" y="45720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952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0.5+0.25-0.5=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9480" y="2895480"/>
              <a:ext cx="990720" cy="510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480" y="3505320"/>
              <a:ext cx="1143000" cy="510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09480" y="4572000"/>
            <a:ext cx="3429000" cy="993240"/>
            <a:chOff x="609480" y="4572000"/>
            <a:chExt cx="3429000" cy="993240"/>
          </a:xfrm>
        </p:grpSpPr>
        <p:sp>
          <p:nvSpPr>
            <p:cNvPr id="497" name=""/>
            <p:cNvSpPr/>
            <p:nvPr/>
          </p:nvSpPr>
          <p:spPr>
            <a:xfrm>
              <a:off x="1143000" y="5105520"/>
              <a:ext cx="60948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80" y="4572000"/>
              <a:ext cx="3429000" cy="510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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0.5+0.25-0.5=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09480" y="1828800"/>
            <a:ext cx="6858000" cy="3786840"/>
            <a:chOff x="609480" y="1828800"/>
            <a:chExt cx="6858000" cy="3786840"/>
          </a:xfrm>
        </p:grpSpPr>
        <p:grpSp>
          <p:nvGrpSpPr>
            <p:cNvPr id="500" name=""/>
            <p:cNvGrpSpPr/>
            <p:nvPr/>
          </p:nvGrpSpPr>
          <p:grpSpPr>
            <a:xfrm>
              <a:off x="609480" y="1828800"/>
              <a:ext cx="6858000" cy="3786840"/>
              <a:chOff x="609480" y="1828800"/>
              <a:chExt cx="6858000" cy="3786840"/>
            </a:xfrm>
          </p:grpSpPr>
          <p:sp>
            <p:nvSpPr>
              <p:cNvPr id="501" name=""/>
              <p:cNvSpPr/>
              <p:nvPr/>
            </p:nvSpPr>
            <p:spPr>
              <a:xfrm>
                <a:off x="5715000" y="182880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00800" y="1828800"/>
                <a:ext cx="533520" cy="45720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7280" y="1828800"/>
                <a:ext cx="38124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15000" y="18288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(0.5-0.25)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9480" y="5105520"/>
                <a:ext cx="1219320" cy="510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1</a:t>
                </a:r>
                <a:r>
                  <a:rPr b="0" lang="en-CA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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609480" y="4038480"/>
              <a:ext cx="1295640" cy="510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P for our adversary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175248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the analysis of our adversary, we have generated a LP has 4099 variables, 209 constraints and totals 70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tatement of the LP was computer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rogram which solved the LP gave the solution of 1.3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71600" y="3809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4152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=||{x|a(x)=i,b(x)=j)||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=||{x|a(x)=i)||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(i1,j1,i2,j2,i3,j3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=||{(x,y,z)|a(x)=i1,b(x)=j1,a(y)=i2,b(y)=j2,a(z)=i3,b(z)=j3 and y is the parent of x and z in the heap)||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=||{x|a(x)=i,b(x)=j, x is a leaf)||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(L) 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(i1,j1,i2,j2,i3,j3)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:same as q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(i1,j1,i2,j2,i3,j3)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t y must be at height L in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9810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4300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676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0040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7335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7652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74284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8769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perfect max-heap on 7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1905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2971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038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971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038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10080" y="3504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943240" y="3504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4038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467480" y="3504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8000640" y="3504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94360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010280" y="2438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81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5181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181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029200" y="4647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409720" y="4647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095880" y="4647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6019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max-heap on 10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Sum to 1: 1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1-1/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Leaf: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Up:  p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1,j1,i2,j2,i3,j3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(i,j)=(i2,j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Double: double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Times New Roman"/>
              </a:rPr>
              <a:t>(i1,j1,i2,j2,i3,j3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(i1=k and j1&gt;i2) or (i3=k and j3&gt;i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lower bound of 1.3701n for building heaps (the previous result was the information theory lower bound of 1.364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of computer programs to write and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action with computer as a proof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981080"/>
            <a:ext cx="80010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nalysis of the supposedly best algorithm to be incorrect.(average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that the argument for the supposedly best lower bound is incorrect.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 lower bound of 1.37n. 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inomial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581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105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670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9810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00400" y="25146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809520" y="2514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32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4114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114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2971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4114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971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971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905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198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848720" y="35049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486400" y="24382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514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7009920" y="2438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07080" cy="5923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est known algorithm in the worst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case Swedish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sson and Chen claim that a variant of the worst case algorithm attains a bound of 1.5n in the average case. We proved that the variant has a running time worse than 1.535718…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7927920" cy="2324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3733920"/>
            <a:ext cx="3962520" cy="1143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048120"/>
            <a:ext cx="800100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nalysis of the supposedly best algorithm to be incorrect.(average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that the argument for the supposedly best lower bound is incorrect.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d a lower bound of 1.37n. (worst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sarial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ary: An adversary specifies how to answer each possible comparison given the comparisons made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: Bound on the running time of the algorithm that knows what the adversary will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of the advers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990720"/>
            <a:ext cx="8763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de x, define Up(x)={y|y&gt;x}, Down(x)={y|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versary will choose x to be the winner (x &gt; y in a max heap) according to the first rule that can ap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Down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║ &gt; ║Down(y)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║Up(x)║ &lt; ║Up(y)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cho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150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4114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244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09552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70572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48640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54864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61722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08624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6171840" y="4190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352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006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18112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724280"/>
            <a:ext cx="380880" cy="1600200"/>
          </a:xfrm>
          <a:custGeom>
            <a:avLst/>
            <a:gdLst>
              <a:gd name="textAreaLeft" fmla="*/ 0 w 380880"/>
              <a:gd name="textAreaRight" fmla="*/ 13752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031800">
            <a:off x="7315200" y="396216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4572000"/>
            <a:ext cx="990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35049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638320" y="350496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85600">
            <a:off x="5941800" y="3230280"/>
            <a:ext cx="1904760" cy="380880"/>
          </a:xfrm>
          <a:prstGeom prst="leftArrow">
            <a:avLst>
              <a:gd name="adj1" fmla="val 50000"/>
              <a:gd name="adj2" fmla="val 12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191120"/>
            <a:ext cx="41907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sson and Chen claims that 1.5n comparisons were needed to construct a heap on n nodes against this adver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0024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8148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102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4114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309600">
            <a:off x="6172200" y="382572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400440" y="5638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791320" y="4952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4:54:51Z</dcterms:created>
  <dc:creator>zli</dc:creator>
  <dc:description/>
  <dc:language>en-US</dc:language>
  <cp:lastModifiedBy>zli</cp:lastModifiedBy>
  <dcterms:modified xsi:type="dcterms:W3CDTF">2005-08-12T18:53:02Z</dcterms:modified>
  <cp:revision>58</cp:revision>
  <dc:subject/>
  <dc:title>Heap building bounds</dc:title>
</cp:coreProperties>
</file>